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F76-436F-4A11-AE67-BDD7AD62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B1E-A372-4005-B566-EEBC22C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7C2-7BD5-4565-8946-A5B14BDF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D4C-6C02-417F-BEE9-F5352D9C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AE7-0828-4B4B-9B55-C5C668FA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400-0DDD-43CD-A920-CCFBEB8A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B55-3E9A-4B63-A8B5-238EC301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4A2-09E4-4915-AC90-031D0B3E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115-9871-420C-AE11-FDD77094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5AD-205C-449A-B112-1D666156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E64-4FA4-4532-9456-D7FC6BB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E38-22B7-4027-816D-3C81F48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F7A4-D249-4C45-BD2C-DF9B1712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1905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722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2143080"/>
            <a:ext cx="4800600" cy="416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172200" cy="464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58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1905120"/>
            <a:ext cx="5257440" cy="4743000"/>
            <a:chOff x="1828800" y="1905120"/>
            <a:chExt cx="5257440" cy="4743000"/>
          </a:xfrm>
        </p:grpSpPr>
        <p:sp>
          <p:nvSpPr>
            <p:cNvPr id="54" name="Puzzle3"/>
            <p:cNvSpPr/>
            <p:nvPr/>
          </p:nvSpPr>
          <p:spPr>
            <a:xfrm>
              <a:off x="4389120" y="1905120"/>
              <a:ext cx="2066400" cy="25207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2"/>
            <p:cNvSpPr/>
            <p:nvPr/>
          </p:nvSpPr>
          <p:spPr>
            <a:xfrm>
              <a:off x="3787920" y="3741120"/>
              <a:ext cx="3298320" cy="22957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4"/>
            <p:cNvSpPr/>
            <p:nvPr/>
          </p:nvSpPr>
          <p:spPr>
            <a:xfrm>
              <a:off x="2511360" y="3713040"/>
              <a:ext cx="1988640" cy="2935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uzzle1"/>
            <p:cNvSpPr/>
            <p:nvPr/>
          </p:nvSpPr>
          <p:spPr>
            <a:xfrm>
              <a:off x="1828800" y="2667600"/>
              <a:ext cx="3339360" cy="17496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722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095720" cy="389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25760" y="1981080"/>
            <a:ext cx="3510000" cy="4608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2485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008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7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2:30:25Z</dcterms:created>
  <dc:creator>cdoty</dc:creator>
  <dc:description/>
  <dc:language>en-US</dc:language>
  <cp:lastModifiedBy>rcipolla</cp:lastModifiedBy>
  <dcterms:modified xsi:type="dcterms:W3CDTF">2009-03-10T19:32:38Z</dcterms:modified>
  <cp:revision>7</cp:revision>
  <dc:subject/>
  <dc:title>Slide 1</dc:title>
</cp:coreProperties>
</file>